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8C9-9C15-4DC2-9E2F-9111CF1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506-EF10-44FA-8DC8-1CF862F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149-4AD3-4EEA-B137-48618A3B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AB5-6F27-4719-A75B-774FD193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66E-C23E-4D22-8444-B51DB39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94C-4D41-4727-B94E-6603C00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254-011F-4CAB-87E0-9C75918A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CCF-F828-4A20-AD4A-20A27A1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4EE-9313-4F95-A5B9-68DB389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DF0-6373-42A7-AD6C-4870A3B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0EF-CFB6-4C7A-8C93-82612DB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EC3-BA48-4913-92E9-21651ED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26ED-78C3-473A-BB6D-346D30A2D6D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836640"/>
            <a:ext cx="1871640" cy="647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1125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836640"/>
            <a:ext cx="1439640" cy="79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62864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724360" y="691920"/>
            <a:ext cx="935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59640" y="549360"/>
            <a:ext cx="1008000" cy="503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ovar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2349360"/>
            <a:ext cx="108108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sempio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rre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99640" y="1413000"/>
            <a:ext cx="142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492280"/>
            <a:ext cx="1871640" cy="201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le pers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no all’ es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vere e a cer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42560" y="450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084640"/>
            <a:ext cx="1726920" cy="151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ti e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molti paesi 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che se me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 una volta,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ono anche ogg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558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300640"/>
            <a:ext cx="1657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280" y="5734080"/>
            <a:ext cx="287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734080"/>
            <a:ext cx="71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66920" y="566100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6093000"/>
            <a:ext cx="7207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609300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6021360"/>
            <a:ext cx="72072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1341360"/>
            <a:ext cx="719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2205000"/>
            <a:ext cx="2232000" cy="1582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no stranieri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3860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076640"/>
            <a:ext cx="1511640" cy="10098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Itali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157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5640" y="515772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589720"/>
            <a:ext cx="934920" cy="718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5589720"/>
            <a:ext cx="1079640" cy="934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04Z</dcterms:created>
  <dc:creator>studente</dc:creator>
  <dc:description/>
  <dc:language>en-US</dc:language>
  <cp:lastModifiedBy>studente</cp:lastModifiedBy>
  <dcterms:modified xsi:type="dcterms:W3CDTF">2017-01-09T09:58:14Z</dcterms:modified>
  <cp:revision>4</cp:revision>
  <dc:subject/>
  <dc:title>Diapositiva 1</dc:title>
</cp:coreProperties>
</file>